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5E0-FE5A-4A76-8A21-E0E58E62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10E-855F-4281-8C9A-1079074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14F-B8B4-4FC0-B0DA-012C1239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8A9-CD51-4F7D-9ACC-F9B324EC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755-E515-42FD-A203-EDE7A11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71B-CA9B-436F-ABF8-4E90645B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918-F5AC-4D38-A88C-3F5D90B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7A4-82B7-443E-A59B-7F134A2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486-ADA0-4749-BE49-5CCF8313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714-D90D-4B1B-B592-23A19C1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65E-9498-42AE-813B-5A88BB6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CD7-2CB9-4ED7-ACA3-DA58490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12E-5635-47F9-AC7C-45F8D591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1219320"/>
            <a:ext cx="69339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ution 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stor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pect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2280" y="568440"/>
            <a:ext cx="8610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measure of evolutionary relationship between two species can be estimated from thei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ime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co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simil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simil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568440"/>
            <a:ext cx="8610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ulticellular organisms were able to evolve primarily becaus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mospher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egan to con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with nuclei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vailability of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568440"/>
            <a:ext cx="8610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natural selection, which is the best explanation of the evolution of the giraffe’s ne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evolved long necks so they could eat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cks of giraffes gradually got longer as they reached for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were designed to have long necks so they could reach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evolved long necks because those with longer necks were more likely to pass the gene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568440"/>
            <a:ext cx="86108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identification of genes help explain the theory of evolution by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are segments of DNA on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that are “best fit” are more likely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change over time in response to their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ed traits are passed to offspring through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52280" y="568440"/>
            <a:ext cx="861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wo (2) sources of scientific evidence of ev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957240"/>
            <a:ext cx="86108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(2) of the main components of Darwin’s theory of natural sele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957240"/>
            <a:ext cx="86108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are and contrast evolution and ecolo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5969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Lamarck’s hypothesis for how organisms change over time.  Then describe one piece of biological evidence that refutes his the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942840"/>
            <a:ext cx="861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of the adaptations birds have evolved that allow most of them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942840"/>
            <a:ext cx="861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of the adaptations birds have evolved that allow most of them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568440"/>
            <a:ext cx="8610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vent of an environmental change, which of the following increases the likelyhood that a species will surv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grow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-76320" y="76320"/>
            <a:ext cx="8610840" cy="66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table below, which species are most closely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7010640" cy="287028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ifference in 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52280" y="2743200"/>
            <a:ext cx="861084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carefully at the pictures of bird beaks above.  Choose the response that matches each beak with the most likely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nectar, 2:nuts &amp; seeds, 3:aquatic organisms, 4: me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nectar, 2:meat, 3:nuts and seeds, 4: aquatic organis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aquatic organisms, 2:nuts &amp; seeds, 3:nectar, 4:me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aquatic organisms, 2:nuts &amp; seeds, 3:meat, 4:nec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1"/>
          <p:cNvGrpSpPr/>
          <p:nvPr/>
        </p:nvGrpSpPr>
        <p:grpSpPr>
          <a:xfrm>
            <a:off x="0" y="38160"/>
            <a:ext cx="8686800" cy="2476440"/>
            <a:chOff x="0" y="38160"/>
            <a:chExt cx="8686800" cy="2476440"/>
          </a:xfrm>
        </p:grpSpPr>
        <p:pic>
          <p:nvPicPr>
            <p:cNvPr id="50" name="Picture 9" descr="LO-mallard_duck_head-1283542"/>
            <p:cNvPicPr/>
            <p:nvPr/>
          </p:nvPicPr>
          <p:blipFill>
            <a:blip r:embed="rId1"/>
            <a:srcRect l="11010" t="15273" r="11928" b="38134"/>
            <a:stretch/>
          </p:blipFill>
          <p:spPr>
            <a:xfrm>
              <a:off x="6172200" y="304920"/>
              <a:ext cx="2514600" cy="13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1" descr="rwscott"/>
            <p:cNvPicPr/>
            <p:nvPr/>
          </p:nvPicPr>
          <p:blipFill>
            <a:blip r:embed="rId2"/>
            <a:srcRect l="41780" t="12502" r="3918" b="45834"/>
            <a:stretch/>
          </p:blipFill>
          <p:spPr>
            <a:xfrm>
              <a:off x="0" y="38160"/>
              <a:ext cx="19810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blue-parrot-head"/>
            <p:cNvPicPr/>
            <p:nvPr/>
          </p:nvPicPr>
          <p:blipFill>
            <a:blip r:embed="rId3"/>
            <a:srcRect l="25669" t="13030" r="32334" b="20495"/>
            <a:stretch/>
          </p:blipFill>
          <p:spPr>
            <a:xfrm>
              <a:off x="4506840" y="152280"/>
              <a:ext cx="15890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" descr="image"/>
            <p:cNvPicPr/>
            <p:nvPr/>
          </p:nvPicPr>
          <p:blipFill>
            <a:blip r:embed="rId4"/>
            <a:srcRect l="18186" t="0" r="0" b="30310"/>
            <a:stretch/>
          </p:blipFill>
          <p:spPr>
            <a:xfrm>
              <a:off x="2057400" y="3816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6"/>
            <p:cNvSpPr txBox="1"/>
            <p:nvPr/>
          </p:nvSpPr>
          <p:spPr>
            <a:xfrm>
              <a:off x="380880" y="17906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17"/>
            <p:cNvSpPr txBox="1"/>
            <p:nvPr/>
          </p:nvSpPr>
          <p:spPr>
            <a:xfrm>
              <a:off x="7543800" y="17906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18"/>
            <p:cNvSpPr txBox="1"/>
            <p:nvPr/>
          </p:nvSpPr>
          <p:spPr>
            <a:xfrm>
              <a:off x="5257800" y="18288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19"/>
            <p:cNvSpPr txBox="1"/>
            <p:nvPr/>
          </p:nvSpPr>
          <p:spPr>
            <a:xfrm>
              <a:off x="2362320" y="186696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568440"/>
            <a:ext cx="86108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ubpopulations of a species of bird became isolated through geographic change a long time ago.  A scientist wonders if the 2 populations are still the same species.  Which question must the scientist answer to determine if the populations are still the same sp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look identical in every as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have the same behavioral patter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raise each other’s offsp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y mate to produce fertile offsp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280" y="568440"/>
            <a:ext cx="86108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ideas was part of Darwin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igin of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he presented a mechanism for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eings evolved from mon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code found in DNA is the same for almost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iologically inherited characteristics can be passed on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that an individual acquires during its lifetime can be passed on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68440"/>
            <a:ext cx="86104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 three (3) of the main components of Darwin’s theory of evolution.  Include a description of the evidence used by Darw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 three (3) of the main contributions of Gregor Mendel.  Briefly describe how Mendel developed his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981080"/>
            <a:ext cx="86108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often compare the amino acid sequence found in the protein hemoglobin to infer the evolutionary relationships between organisms.  Based on the data above, which organisms are most closely re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illa and mo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mp and gor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key and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mp and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320" y="609480"/>
          <a:ext cx="8915400" cy="1219320"/>
        </p:xfrm>
        <a:graphic>
          <a:graphicData uri="http://schemas.openxmlformats.org/drawingml/2006/table">
            <a:tbl>
              <a:tblPr/>
              <a:tblGrid>
                <a:gridCol w="685800"/>
                <a:gridCol w="457200"/>
                <a:gridCol w="457200"/>
                <a:gridCol w="380880"/>
                <a:gridCol w="457200"/>
                <a:gridCol w="457200"/>
                <a:gridCol w="380880"/>
                <a:gridCol w="457200"/>
                <a:gridCol w="457200"/>
                <a:gridCol w="381240"/>
                <a:gridCol w="457200"/>
                <a:gridCol w="380880"/>
                <a:gridCol w="385920"/>
                <a:gridCol w="444240"/>
                <a:gridCol w="446040"/>
                <a:gridCol w="446400"/>
                <a:gridCol w="444240"/>
                <a:gridCol w="447840"/>
                <a:gridCol w="444600"/>
                <a:gridCol w="446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WordArt 179"/>
          <p:cNvSpPr txBox="1"/>
          <p:nvPr/>
        </p:nvSpPr>
        <p:spPr>
          <a:xfrm>
            <a:off x="380880" y="763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emoglobin Amino Acid Seque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2280" y="568440"/>
            <a:ext cx="8610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of snakes lives on a large island that becomes two separate islands when the sea level rises.  What would you expect to happen after a very long period of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will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breeding will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will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4:59:20Z</dcterms:created>
  <dc:creator>Kary M. Kahle</dc:creator>
  <dc:description/>
  <dc:language>en-US</dc:language>
  <cp:lastModifiedBy>Tracey Hayden</cp:lastModifiedBy>
  <dcterms:modified xsi:type="dcterms:W3CDTF">2009-04-19T16:11:25Z</dcterms:modified>
  <cp:revision>25</cp:revision>
  <dc:subject/>
  <dc:title>Slide 1</dc:title>
</cp:coreProperties>
</file>